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9FA4F-B182-47AB-A7F4-AEDC1D0E60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DC400-1D5B-421E-B7A4-7E7490022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264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66" name="Прямоугольник 11266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F2BAD-8814-4DAD-BD0D-99022C131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288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0" name="Прямоугольник 12290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8763B-DDE5-40A2-8279-7CC6219EB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312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4" name="Прямоугольник 13314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мещающий номер слайда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BE8F4-392A-4200-B0D4-4E2FFEAA1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336"/>
          <p:cNvSpPr/>
          <p:nvPr/>
        </p:nvSpPr>
        <p:spPr>
          <a:xfrm>
            <a:off x="5180040" y="6513480"/>
            <a:ext cx="39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900520" y="857160"/>
            <a:ext cx="3341520" cy="2313000"/>
          </a:xfrm>
          <a:prstGeom prst="rect">
            <a:avLst/>
          </a:prstGeom>
          <a:ln w="0">
            <a:noFill/>
          </a:ln>
        </p:spPr>
      </p:sp>
      <p:sp>
        <p:nvSpPr>
          <p:cNvPr id="78" name="Прямоугольник 14338"/>
          <p:cNvSpPr/>
          <p:nvPr/>
        </p:nvSpPr>
        <p:spPr>
          <a:xfrm>
            <a:off x="914400" y="3300480"/>
            <a:ext cx="73137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7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4102"/>
          <p:cNvGraphicFramePr/>
          <p:nvPr/>
        </p:nvGraphicFramePr>
        <p:xfrm>
          <a:off x="5645160" y="392040"/>
          <a:ext cx="3743280" cy="1077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9" name="Объект 41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45160" y="392040"/>
                    <a:ext cx="37432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User</cp:lastModifiedBy>
  <cp:lastPrinted>2022-01-24T17:32:33Z</cp:lastPrinted>
  <dcterms:modified xsi:type="dcterms:W3CDTF">2022-10-10T12:40:49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